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A20D3-4489-432E-A2A2-26B7E0F46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29366-FDF4-4FFC-92F9-15344D889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2EC75-C5B8-454F-B2B3-339FB4351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03551-7DA3-43BE-91A1-1C2940E25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CC1EB-A256-475C-9257-277A59635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A9244-C4FC-49BE-9780-0B376F1BF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6A61E-17E2-47AA-B8B8-D65972E02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51D66-53FD-4745-8DAD-94F7CC252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462B1-4688-4242-B857-6047FD0FB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60D25-4B20-40A4-B49C-13E88C8CE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41434-9847-4C98-B4B9-8872D71D3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2557D-ED59-452A-8886-427C9D5F1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BD16-00D1-430D-97B1-B380FB85F5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NSDUH</cp:lastModifiedBy>
  <dcterms:modified xsi:type="dcterms:W3CDTF">2007-05-22T00:42:07Z</dcterms:modified>
  <cp:revision>51</cp:revision>
  <dc:subject/>
  <dc:title>PowerPoint Presentation</dc:title>
</cp:coreProperties>
</file>